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4024080" y="0"/>
            <a:ext cx="30747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Rounded MT Bold"/>
              </a:rPr>
              <a:t>Click to move the slide</a:t>
            </a:r>
            <a:endParaRPr b="1" lang="en-US" sz="2800" spc="-1" strike="noStrike">
              <a:solidFill>
                <a:srgbClr val="800000"/>
              </a:solidFill>
              <a:latin typeface="Arial Rounded MT Bol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0" y="9721800"/>
            <a:ext cx="307512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4024080" y="9721800"/>
            <a:ext cx="30747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D076CE5-8F22-484A-884D-9689BC1915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hyperlink" Target="http://www.computerwoche.de/index.cfm?pageid=365&amp;artid=76073&amp;linktype=nl" TargetMode="External"/><Relationship Id="rId2" Type="http://schemas.openxmlformats.org/officeDocument/2006/relationships/hyperlink" Target="http://www.computerwoche.de/index.cfm?pageid=365&amp;artid=76073&amp;linktype=nl" TargetMode="External"/><Relationship Id="rId3" Type="http://schemas.openxmlformats.org/officeDocument/2006/relationships/hyperlink" Target="http://www.computerwoche.de/index.cfm?pageid=365&amp;artid=76073&amp;linktype=nl" TargetMode="External"/><Relationship Id="rId4" Type="http://schemas.openxmlformats.org/officeDocument/2006/relationships/slide" Target="../slides/slide10.xml"/><Relationship Id="rId5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utzung bereits existierender Modu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hema Integration und Wiederverwendbarke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z.B. Modul-Aufruf über den EXIT (AFP-Druck für Listen bei M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QL-Entwicklung zu Testzwec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joinIT bietet dem Report-Entwickler eine Workbench, mit der Reports schnell entwickelt und für End-User zugänglich gemacht werden könn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lossar Business Intelligenc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0.05.2005 um 08:17 Uhr 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ETL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xtract, Transform, Load; Werkzeuge, mit denen Daten aus operativen Systemen wie </a:t>
            </a:r>
            <a:r>
              <a:rPr b="0" lang="de-DE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AP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R/3 oder anderen ERP-Lösungen ausgelesen und zur konsistenten Analyse in ein </a:t>
            </a:r>
            <a:r>
              <a:rPr b="0" lang="de-DE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Data Warehous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übertragen werden könn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Data Warehouse: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nwendung zur unternehmensweiten Sammlung von Daten aus operativen Systemen für Analysezwec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Data Mart: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ata Warehouse auf Abteilungs- oder Bereichseb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Olap: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nline Analytical Processing; Anwendung zur Analyse von Daten, meist auf Basis multidimensionaler </a:t>
            </a:r>
            <a:r>
              <a:rPr b="0" lang="de-DE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Datenbanken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Rolap: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rkzeuge, die auf relationalen Datenbanken aufsetzen und deshalb geringere Analysemöglichkeiten bie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Qualitätsgesicherte Batch und Online Recherch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esender Zugri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esourcenli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arameter für übertragbare Datenvolu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PC-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niversalwerkze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AP Telefonbuch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Import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DB2  alte Daten werden überschrieben; wegen Fehler wurde ein Leerfile auf den Bestand geschriebe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jetzt: qualitätssicherung durch Parameterabfreage (Bestand &gt;= 35.000 Datensätze)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bei Abweichung wird vor update ein email mit Meldung getrigg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atzgebie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otverwalt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(H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"/>
              </a:rPr>
              <a:t>Zentrale Informations-Platt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yklische Berich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andardisierte Batchverarbeit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ertige Ablaufprotoko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in joinIT Batchprogramm für die Produktionsintegration ist immer gle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Qualitätsgesicherte Batch und Online Recherch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esender Zugri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esourcenli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arameter für übertragbare Datenvolu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PC-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niversalwerkze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AP Telefonbuch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Import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DB2  alte Daten werden überschrieben; wegen Fehler wurde ein Leerfile auf den Bestand geschriebe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jetzt: qualitätssicherung durch Parameterabfreage (Bestand &gt;= 35.000 Datensätze)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bei Abweichung wird vor update ein email mit Meldung getrigg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eporting für zeitnahe oder zeitgleiche Informationen für unternehmenskritische Prozesse, die stark veränderlich und nicht planbar s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nterschied zum Wettbewerb: Informationen aus hochstrukturierbaren Informationen, die planbar s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se Klasse von Informationen können nur aus operativen Daten gewonnen we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sp: SWIFT, Problem-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ösung zeitkritischer Anforderungen im Produktionsumfe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Bsp. SAP-Telefonbuch mit Fehlker beim Übertragen nach D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cc"/>
                </a:solidFill>
                <a:latin typeface="Times New Roman"/>
              </a:rPr>
              <a:t>Bündelung von Realtime-Informationen in einem heterogenen Systemumfe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cc"/>
                </a:solidFill>
                <a:latin typeface="Times New Roman"/>
              </a:rPr>
              <a:t>Medienbrüche beseit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any dat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it joinIT kann auf jede Datenquelle zugegriffen werden, die mit ODBC oder JDBC zugänglich ist.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sätzlich sind auf dem IBM-Mainframe alle Datei-Organisationsformen wi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S, VSAM, DB2, TABEX, SHRINK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/PS-Dateien, variabel lange Dateien, usw.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verarbeitb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Any form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s stehen standardmäßig als Format zur Verfügung: 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HTML im Browser, 2D- und 3D-Graphik, formatierter Export nach Excel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Über Druckfunktion kann auch die Ausgabe als PDF-Datei erfolgen (Voraussetzung PDF-Druckertreiber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urch die Export-Funktion nach Excel ist eine beliebige Weiterverarbeitung mögli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nter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anywher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verstehen wir die Verfügbarkeit aller Reports konzernweit im Intranet, überall und jederze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96360" cy="762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800" spc="-1" strike="noStrike">
              <a:solidFill>
                <a:srgbClr val="800000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000" y="1523880"/>
            <a:ext cx="8496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" y="3673440"/>
            <a:ext cx="8496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96360" cy="762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800" spc="-1" strike="noStrike">
              <a:solidFill>
                <a:srgbClr val="800000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000" y="1523880"/>
            <a:ext cx="414612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1840" y="1523880"/>
            <a:ext cx="414612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000" y="3673440"/>
            <a:ext cx="414612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1840" y="3673440"/>
            <a:ext cx="414612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96360" cy="762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800" spc="-1" strike="noStrike">
              <a:solidFill>
                <a:srgbClr val="800000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000" y="1523880"/>
            <a:ext cx="27356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800" y="1523880"/>
            <a:ext cx="27356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3600" y="1523880"/>
            <a:ext cx="27356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000" y="3673440"/>
            <a:ext cx="27356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800" y="3673440"/>
            <a:ext cx="27356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3600" y="3673440"/>
            <a:ext cx="27356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96360" cy="762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800" spc="-1" strike="noStrike">
              <a:solidFill>
                <a:srgbClr val="800000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000" y="152388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96360" cy="762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800" spc="-1" strike="noStrike">
              <a:solidFill>
                <a:srgbClr val="800000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000" y="152388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96360" cy="762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800" spc="-1" strike="noStrike">
              <a:solidFill>
                <a:srgbClr val="800000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000" y="1523880"/>
            <a:ext cx="414612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1840" y="1523880"/>
            <a:ext cx="414612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96360" cy="762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800" spc="-1" strike="noStrike">
              <a:solidFill>
                <a:srgbClr val="8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33000"/>
            <a:ext cx="8496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96360" cy="762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800" spc="-1" strike="noStrike">
              <a:solidFill>
                <a:srgbClr val="800000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000" y="1523880"/>
            <a:ext cx="414612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1840" y="1523880"/>
            <a:ext cx="414612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000" y="3673440"/>
            <a:ext cx="414612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96360" cy="762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800" spc="-1" strike="noStrike">
              <a:solidFill>
                <a:srgbClr val="800000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000" y="1523880"/>
            <a:ext cx="414612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1840" y="1523880"/>
            <a:ext cx="414612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1840" y="3673440"/>
            <a:ext cx="414612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96360" cy="762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800" spc="-1" strike="noStrike">
              <a:solidFill>
                <a:srgbClr val="800000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000" y="1523880"/>
            <a:ext cx="414612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1840" y="1523880"/>
            <a:ext cx="414612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" y="3673440"/>
            <a:ext cx="8496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4e2"/>
            </a:gs>
            <a:gs pos="100000">
              <a:srgbClr val="ffde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96360" cy="762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Rounded MT Bold"/>
              </a:rPr>
              <a:t>Click to edit the title text format</a:t>
            </a:r>
            <a:endParaRPr b="1" lang="en-US" sz="2800" spc="-1" strike="noStrike">
              <a:solidFill>
                <a:srgbClr val="800000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000" y="152388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77960" indent="-300240">
              <a:spcBef>
                <a:spcPts val="649"/>
              </a:spcBef>
              <a:buClr>
                <a:srgbClr val="8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  <a:p>
            <a:pPr lvl="2" marL="1197000" indent="-239760"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  <a:p>
            <a:pPr lvl="3" marL="1676520" indent="-239760">
              <a:spcBef>
                <a:spcPts val="649"/>
              </a:spcBef>
              <a:buClr>
                <a:srgbClr val="8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  <a:p>
            <a:pPr lvl="4" marL="2155680" indent="-239400">
              <a:spcBef>
                <a:spcPts val="649"/>
              </a:spcBef>
              <a:buClr>
                <a:srgbClr val="8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  <a:p>
            <a:pPr lvl="5" marL="2155680" indent="-239400">
              <a:spcBef>
                <a:spcPts val="649"/>
              </a:spcBef>
              <a:buClr>
                <a:srgbClr val="d2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  <a:p>
            <a:pPr lvl="6" marL="2155680" indent="-239400">
              <a:spcBef>
                <a:spcPts val="649"/>
              </a:spcBef>
              <a:buClr>
                <a:srgbClr val="d2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19440"/>
            <a:ext cx="2210040" cy="304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1" i="1" lang="de-DE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7FC5C5D-0E6C-4E74-9B1A-F2F6B170C5E8}" type="datetime">
              <a:rPr b="1" i="1" lang="de-DE" sz="1400" spc="-1" strike="noStrike">
                <a:solidFill>
                  <a:srgbClr val="80808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kontakt@acaysoft.de" TargetMode="External"/><Relationship Id="rId2" Type="http://schemas.openxmlformats.org/officeDocument/2006/relationships/hyperlink" Target="http://www.acayosoft.de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4e2"/>
            </a:gs>
            <a:gs pos="100000">
              <a:srgbClr val="ffde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42160" y="1333440"/>
            <a:ext cx="6228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Arial"/>
              </a:rPr>
              <a:t>der Datenexpress für Ihre Informationen</a:t>
            </a:r>
            <a:endParaRPr b="0" lang="en-US" sz="25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78360" y="2492280"/>
            <a:ext cx="6063480" cy="24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800000"/>
                </a:solidFill>
                <a:latin typeface="Arial"/>
              </a:rPr>
              <a:t>Unternehmenskritische Lösungen und </a:t>
            </a:r>
            <a:br>
              <a:rPr sz="2100"/>
            </a:br>
            <a:r>
              <a:rPr b="1" lang="de-DE" sz="2100" spc="-1" strike="noStrike">
                <a:solidFill>
                  <a:srgbClr val="800000"/>
                </a:solidFill>
                <a:latin typeface="Arial"/>
              </a:rPr>
              <a:t>unternehmenskritische Echtzeitinformationen </a:t>
            </a:r>
            <a:br>
              <a:rPr sz="2100"/>
            </a:br>
            <a:r>
              <a:rPr b="1" lang="de-DE" sz="2100" spc="-1" strike="noStrike">
                <a:solidFill>
                  <a:srgbClr val="800000"/>
                </a:solidFill>
                <a:latin typeface="Arial"/>
              </a:rPr>
              <a:t>für das Management bei einer Reduzierung </a:t>
            </a:r>
            <a:br>
              <a:rPr sz="2100"/>
            </a:br>
            <a:r>
              <a:rPr b="1" lang="de-DE" sz="2100" spc="-1" strike="noStrike">
                <a:solidFill>
                  <a:srgbClr val="800000"/>
                </a:solidFill>
                <a:latin typeface="Arial"/>
              </a:rPr>
              <a:t>der Kosten für die Informationsgewinnung </a:t>
            </a:r>
            <a:br>
              <a:rPr sz="2100"/>
            </a:br>
            <a:r>
              <a:rPr b="1" lang="de-DE" sz="2100" spc="-1" strike="noStrike">
                <a:solidFill>
                  <a:srgbClr val="800000"/>
                </a:solidFill>
                <a:latin typeface="Arial"/>
              </a:rPr>
              <a:t>von mehr als 70% </a:t>
            </a:r>
            <a:endParaRPr b="0" lang="en-US" sz="2100" spc="-1" strike="noStrike">
              <a:solidFill>
                <a:srgbClr val="d2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828800" y="1371600"/>
            <a:ext cx="4952880" cy="47512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3498840" cy="762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500" spc="-1" strike="noStrike">
                <a:solidFill>
                  <a:srgbClr val="ff7300"/>
                </a:solidFill>
                <a:latin typeface="Arial Rounded MT Bold"/>
              </a:rPr>
              <a:t>join</a:t>
            </a:r>
            <a:r>
              <a:rPr b="1" i="1" lang="de-DE" sz="5500" spc="-1" strike="noStrike">
                <a:solidFill>
                  <a:srgbClr val="800000"/>
                </a:solidFill>
                <a:latin typeface="Arial Rounded MT Bold"/>
              </a:rPr>
              <a:t>IT</a:t>
            </a:r>
            <a:endParaRPr b="1" lang="en-US" sz="5500" spc="-1" strike="noStrike">
              <a:solidFill>
                <a:srgbClr val="8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A7BC3-B37D-4FCB-85F3-B2430F1D8E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4e2"/>
            </a:gs>
            <a:gs pos="100000">
              <a:srgbClr val="ffde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96360" cy="762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2800" spc="-1" strike="noStrike">
                <a:solidFill>
                  <a:srgbClr val="ff7300"/>
                </a:solidFill>
                <a:latin typeface="Arial Rounded MT Bold"/>
              </a:rPr>
              <a:t>join</a:t>
            </a:r>
            <a:r>
              <a:rPr b="1" i="1" lang="de-DE" sz="2800" spc="-1" strike="noStrike">
                <a:solidFill>
                  <a:srgbClr val="800000"/>
                </a:solidFill>
                <a:latin typeface="Arial Rounded MT Bold"/>
              </a:rPr>
              <a:t>IT</a:t>
            </a:r>
            <a:r>
              <a:rPr b="1" lang="de-DE" sz="2800" spc="-1" strike="noStrike">
                <a:solidFill>
                  <a:srgbClr val="800000"/>
                </a:solidFill>
                <a:latin typeface="Arial Rounded MT Bold"/>
              </a:rPr>
              <a:t> - Philosophie</a:t>
            </a:r>
            <a:endParaRPr b="1" lang="en-US" sz="2800" spc="-1" strike="noStrike">
              <a:solidFill>
                <a:srgbClr val="800000"/>
              </a:solidFill>
              <a:latin typeface="Arial Rounded MT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2390400"/>
            <a:ext cx="8018280" cy="3095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7000"/>
          </a:bodyPr>
          <a:p>
            <a:pPr marL="348120" indent="-348120">
              <a:lnSpc>
                <a:spcPct val="90000"/>
              </a:lnSpc>
              <a:spcBef>
                <a:spcPts val="964"/>
              </a:spcBef>
              <a:spcAft>
                <a:spcPts val="964"/>
              </a:spcAft>
              <a:buClr>
                <a:srgbClr val="800000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„</a:t>
            </a: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easy to learn“   &amp;   „easy to use“</a:t>
            </a: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8120" indent="-348120">
              <a:lnSpc>
                <a:spcPct val="90000"/>
              </a:lnSpc>
              <a:spcBef>
                <a:spcPts val="964"/>
              </a:spcBef>
              <a:spcAft>
                <a:spcPts val="964"/>
              </a:spcAft>
              <a:buClr>
                <a:srgbClr val="800000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Vertrauter SQL Sprachumfang durch native SQL </a:t>
            </a: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8120" indent="-348120">
              <a:lnSpc>
                <a:spcPct val="90000"/>
              </a:lnSpc>
              <a:spcBef>
                <a:spcPts val="964"/>
              </a:spcBef>
              <a:spcAft>
                <a:spcPts val="964"/>
              </a:spcAft>
              <a:buClr>
                <a:srgbClr val="800000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Einfache und sofortige Informations- Publizierung incl. Authorisierung</a:t>
            </a: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8120" indent="-348120">
              <a:lnSpc>
                <a:spcPct val="90000"/>
              </a:lnSpc>
              <a:spcBef>
                <a:spcPts val="964"/>
              </a:spcBef>
              <a:spcAft>
                <a:spcPts val="964"/>
              </a:spcAft>
              <a:buClr>
                <a:srgbClr val="800000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Kurze Implementierungszeit und sofortige Verfügbarkeit</a:t>
            </a: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8120" indent="-348120">
              <a:lnSpc>
                <a:spcPct val="90000"/>
              </a:lnSpc>
              <a:spcBef>
                <a:spcPts val="964"/>
              </a:spcBef>
              <a:spcAft>
                <a:spcPts val="964"/>
              </a:spcAft>
              <a:buClr>
                <a:srgbClr val="800000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Nutzung bereits existierender Module und beidseitige Portierung von SQL‘s</a:t>
            </a: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1673280"/>
            <a:ext cx="3816360" cy="46188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2400" spc="-1" strike="noStrike">
                <a:solidFill>
                  <a:srgbClr val="ff7300"/>
                </a:solidFill>
                <a:latin typeface="Arial Rounded MT Bold"/>
              </a:rPr>
              <a:t>Das Konzept</a:t>
            </a:r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CBF0F9-BC5D-453B-9FA7-EE81655257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4e2"/>
            </a:gs>
            <a:gs pos="100000">
              <a:srgbClr val="ffde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96360" cy="762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800" spc="-1" strike="noStrike">
                <a:solidFill>
                  <a:srgbClr val="800000"/>
                </a:solidFill>
                <a:latin typeface="Arial Rounded MT Bold"/>
              </a:rPr>
              <a:t>Welchen Skill brauchen User &amp; Developer?</a:t>
            </a:r>
            <a:endParaRPr b="1" lang="en-US" sz="2800" spc="-1" strike="noStrike">
              <a:solidFill>
                <a:srgbClr val="800000"/>
              </a:solidFill>
              <a:latin typeface="Arial Rounded MT Bold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2421000"/>
            <a:ext cx="78073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800000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Mit der Maus „klicken“</a:t>
            </a:r>
            <a:endParaRPr b="0" lang="en-US" sz="2200" spc="-1" strike="noStrike">
              <a:solidFill>
                <a:srgbClr val="d2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800000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Gegebenenfalls Parameter eintippen</a:t>
            </a:r>
            <a:endParaRPr b="0" lang="en-US" sz="22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4229280"/>
            <a:ext cx="7948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800000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Gute Kenntnisse über die Datenstruktur</a:t>
            </a:r>
            <a:endParaRPr b="0" lang="en-US" sz="2200" spc="-1" strike="noStrike">
              <a:solidFill>
                <a:srgbClr val="d2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800000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SQL im jeweiligen Sprachumfang der Datenbank</a:t>
            </a:r>
            <a:endParaRPr b="0" lang="en-US" sz="2200" spc="-1" strike="noStrike">
              <a:solidFill>
                <a:srgbClr val="d2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800000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Programmierkenntnisse ohne spezielles Wissen über die Zugriffsmethode</a:t>
            </a:r>
            <a:endParaRPr b="0" lang="en-US" sz="22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1673280"/>
            <a:ext cx="3816360" cy="46188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2400" spc="-1" strike="noStrike">
                <a:solidFill>
                  <a:srgbClr val="ff7300"/>
                </a:solidFill>
                <a:latin typeface="Arial Rounded MT Bold"/>
              </a:rPr>
              <a:t>User</a:t>
            </a:r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3581280"/>
            <a:ext cx="3816360" cy="46188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2400" spc="-1" strike="noStrike">
                <a:solidFill>
                  <a:srgbClr val="ff7300"/>
                </a:solidFill>
                <a:latin typeface="Arial Rounded MT Bold"/>
              </a:rPr>
              <a:t>Developer</a:t>
            </a:r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45D279-947B-4C4C-A680-4F2B89FCA9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4e2"/>
            </a:gs>
            <a:gs pos="100000">
              <a:srgbClr val="ffde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96360" cy="762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800" spc="-1" strike="noStrike">
                <a:solidFill>
                  <a:srgbClr val="800000"/>
                </a:solidFill>
                <a:latin typeface="Arial Rounded MT Bold"/>
              </a:rPr>
              <a:t>Warum kann man durch </a:t>
            </a:r>
            <a:r>
              <a:rPr b="1" i="1" lang="de-DE" sz="2800" spc="-1" strike="noStrike">
                <a:solidFill>
                  <a:srgbClr val="ff7300"/>
                </a:solidFill>
                <a:latin typeface="Arial Rounded MT Bold"/>
              </a:rPr>
              <a:t>join</a:t>
            </a:r>
            <a:r>
              <a:rPr b="1" i="1" lang="de-DE" sz="2800" spc="-1" strike="noStrike">
                <a:solidFill>
                  <a:srgbClr val="800000"/>
                </a:solidFill>
                <a:latin typeface="Arial Rounded MT Bold"/>
              </a:rPr>
              <a:t>IT</a:t>
            </a:r>
            <a:r>
              <a:rPr b="1" lang="de-DE" sz="2800" spc="-1" strike="noStrike">
                <a:solidFill>
                  <a:srgbClr val="800000"/>
                </a:solidFill>
                <a:latin typeface="Arial Rounded MT Bold"/>
              </a:rPr>
              <a:t> profitieren?</a:t>
            </a:r>
            <a:endParaRPr b="1" lang="en-US" sz="2800" spc="-1" strike="noStrike">
              <a:solidFill>
                <a:srgbClr val="800000"/>
              </a:solidFill>
              <a:latin typeface="Arial Rounded MT Bold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2205000"/>
            <a:ext cx="853272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 marL="384120" indent="-384120">
              <a:lnSpc>
                <a:spcPct val="100000"/>
              </a:lnSpc>
              <a:spcBef>
                <a:spcPts val="1375"/>
              </a:spcBef>
              <a:spcAft>
                <a:spcPts val="1375"/>
              </a:spcAft>
              <a:buClr>
                <a:srgbClr val="800000"/>
              </a:buClr>
              <a:buFont typeface="Wingdings" charset="2"/>
              <a:buChar char="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...einfach in der Anwendung durch Web-Technologie</a:t>
            </a:r>
            <a:endParaRPr b="0" lang="en-US" sz="2200" spc="-1" strike="noStrike">
              <a:solidFill>
                <a:srgbClr val="d2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1375"/>
              </a:spcBef>
              <a:spcAft>
                <a:spcPts val="1375"/>
              </a:spcAft>
              <a:buClr>
                <a:srgbClr val="800000"/>
              </a:buClr>
              <a:buFont typeface="Wingdings" charset="2"/>
              <a:buChar char="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…</a:t>
            </a: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zuverlässig im täglichen Einsatz durch Mainframe</a:t>
            </a:r>
            <a:endParaRPr b="0" lang="en-US" sz="2200" spc="-1" strike="noStrike">
              <a:solidFill>
                <a:srgbClr val="d2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1375"/>
              </a:spcBef>
              <a:spcAft>
                <a:spcPts val="1375"/>
              </a:spcAft>
              <a:buClr>
                <a:srgbClr val="800000"/>
              </a:buClr>
              <a:buFont typeface="Wingdings" charset="2"/>
              <a:buChar char="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...eine Zeiteinsparung von 70 – 98% erreicht wird</a:t>
            </a:r>
            <a:endParaRPr b="0" lang="en-US" sz="2200" spc="-1" strike="noStrike">
              <a:solidFill>
                <a:srgbClr val="d2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1375"/>
              </a:spcBef>
              <a:spcAft>
                <a:spcPts val="1375"/>
              </a:spcAft>
              <a:buClr>
                <a:srgbClr val="800000"/>
              </a:buClr>
              <a:buFont typeface="Wingdings" charset="2"/>
              <a:buChar char="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...Standardisierung und Automation die Wartbarkeit und </a:t>
            </a:r>
            <a:br>
              <a:rPr sz="2200"/>
            </a:b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die Qualität erhöhen </a:t>
            </a:r>
            <a:endParaRPr b="0" lang="en-US" sz="2200" spc="-1" strike="noStrike">
              <a:solidFill>
                <a:srgbClr val="d2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1375"/>
              </a:spcBef>
              <a:spcAft>
                <a:spcPts val="1375"/>
              </a:spcAft>
              <a:buClr>
                <a:srgbClr val="800000"/>
              </a:buClr>
              <a:buFont typeface="Wingdings" charset="2"/>
              <a:buChar char="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…</a:t>
            </a: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die Produktivitätssteigerung  SOFORT eintritt!</a:t>
            </a:r>
            <a:endParaRPr b="0" lang="en-US" sz="22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1268280"/>
            <a:ext cx="3816360" cy="46188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2400" spc="-1" strike="noStrike">
                <a:solidFill>
                  <a:srgbClr val="ff7300"/>
                </a:solidFill>
                <a:latin typeface="Arial Rounded MT Bold"/>
              </a:rPr>
              <a:t>Profitieren, weil …..</a:t>
            </a:r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74FE3-A62D-4C47-89A2-8E4EE96B2C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4e2"/>
            </a:gs>
            <a:gs pos="100000">
              <a:srgbClr val="ffde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96360" cy="762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800" spc="-1" strike="noStrike">
                <a:solidFill>
                  <a:srgbClr val="800000"/>
                </a:solidFill>
                <a:latin typeface="Arial Rounded MT Bold"/>
              </a:rPr>
              <a:t>Wer kann von </a:t>
            </a:r>
            <a:r>
              <a:rPr b="1" i="1" lang="de-DE" sz="2800" spc="-1" strike="noStrike">
                <a:solidFill>
                  <a:srgbClr val="ff7300"/>
                </a:solidFill>
                <a:latin typeface="Arial Rounded MT Bold"/>
              </a:rPr>
              <a:t>join</a:t>
            </a:r>
            <a:r>
              <a:rPr b="1" i="1" lang="de-DE" sz="2800" spc="-1" strike="noStrike">
                <a:solidFill>
                  <a:srgbClr val="800000"/>
                </a:solidFill>
                <a:latin typeface="Arial Rounded MT Bold"/>
              </a:rPr>
              <a:t>IT</a:t>
            </a:r>
            <a:r>
              <a:rPr b="1" lang="de-DE" sz="2800" spc="-1" strike="noStrike">
                <a:solidFill>
                  <a:srgbClr val="800000"/>
                </a:solidFill>
                <a:latin typeface="Arial Rounded MT Bold"/>
              </a:rPr>
              <a:t> profitieren?</a:t>
            </a:r>
            <a:endParaRPr b="1" lang="en-US" sz="2800" spc="-1" strike="noStrike">
              <a:solidFill>
                <a:srgbClr val="800000"/>
              </a:solidFill>
              <a:latin typeface="Arial Rounded MT Bold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2421000"/>
            <a:ext cx="853272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 marL="384120" indent="-384120">
              <a:lnSpc>
                <a:spcPct val="100000"/>
              </a:lnSpc>
              <a:spcBef>
                <a:spcPts val="1375"/>
              </a:spcBef>
              <a:spcAft>
                <a:spcPts val="1375"/>
              </a:spcAft>
              <a:buClr>
                <a:srgbClr val="800000"/>
              </a:buClr>
              <a:buFont typeface="Wingdings" charset="2"/>
              <a:buChar char="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...der Fachbereich ... erhält seine Lösungen „in time“ </a:t>
            </a:r>
            <a:endParaRPr b="0" lang="en-US" sz="2200" spc="-1" strike="noStrike">
              <a:solidFill>
                <a:srgbClr val="d2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1375"/>
              </a:spcBef>
              <a:spcAft>
                <a:spcPts val="1375"/>
              </a:spcAft>
              <a:buClr>
                <a:srgbClr val="800000"/>
              </a:buClr>
              <a:buFont typeface="Wingdings" charset="2"/>
              <a:buChar char="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...die IT-Anwendungsentwicklung ... kann interne Problemstellungen und die der Fachbereiche schneller lösen </a:t>
            </a:r>
            <a:endParaRPr b="0" lang="en-US" sz="2200" spc="-1" strike="noStrike">
              <a:solidFill>
                <a:srgbClr val="d2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1375"/>
              </a:spcBef>
              <a:spcAft>
                <a:spcPts val="1375"/>
              </a:spcAft>
              <a:buClr>
                <a:srgbClr val="800000"/>
              </a:buClr>
              <a:buFont typeface="Wingdings" charset="2"/>
              <a:buChar char="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...der RZ-Betrieb/Produktion ... höhere Qualität und Ablaufsicherheit durch Automation und Standardisierung</a:t>
            </a:r>
            <a:endParaRPr b="0" lang="en-US" sz="22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1673280"/>
            <a:ext cx="3816360" cy="46188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2400" spc="-1" strike="noStrike">
                <a:solidFill>
                  <a:srgbClr val="ff7300"/>
                </a:solidFill>
                <a:latin typeface="Arial Rounded MT Bold"/>
              </a:rPr>
              <a:t>Es profitieren…..</a:t>
            </a:r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B4D6E0-81C1-4486-8D23-456EE5F30C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4e2"/>
            </a:gs>
            <a:gs pos="100000">
              <a:srgbClr val="ffde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96360" cy="762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Rounded MT Bold"/>
              </a:rPr>
              <a:t>Zusammenfassung</a:t>
            </a:r>
            <a:endParaRPr b="1" lang="en-US" sz="2800" spc="-1" strike="noStrike">
              <a:solidFill>
                <a:srgbClr val="800000"/>
              </a:solidFill>
              <a:latin typeface="Arial Rounded MT 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1280" y="2420640"/>
            <a:ext cx="8532720" cy="287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78000"/>
          </a:bodyPr>
          <a:p>
            <a:pPr marL="279720" indent="-279720">
              <a:lnSpc>
                <a:spcPct val="85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...ist eine Informations-Plattform</a:t>
            </a: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279720" indent="0">
              <a:lnSpc>
                <a:spcPct val="85000"/>
              </a:lnSpc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100" spc="-1" strike="noStrike">
              <a:solidFill>
                <a:srgbClr val="800000"/>
              </a:solidFill>
              <a:latin typeface="Arial"/>
            </a:endParaRPr>
          </a:p>
          <a:p>
            <a:pPr marL="279720" indent="-279720">
              <a:lnSpc>
                <a:spcPct val="85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...bedeutet f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lexible und schnelle </a:t>
            </a: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R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eaktion </a:t>
            </a:r>
            <a:br>
              <a:rPr sz="2200"/>
            </a:b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   bei zeitkritischen Umsetzungen</a:t>
            </a: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279720" indent="0">
              <a:lnSpc>
                <a:spcPct val="85000"/>
              </a:lnSpc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100" spc="-1" strike="noStrike">
              <a:solidFill>
                <a:srgbClr val="800000"/>
              </a:solidFill>
              <a:latin typeface="Arial"/>
            </a:endParaRPr>
          </a:p>
          <a:p>
            <a:pPr marL="279720" indent="-279720">
              <a:lnSpc>
                <a:spcPct val="85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...reduziert die Aktivitäten des Developers </a:t>
            </a:r>
            <a:br>
              <a:rPr sz="2200"/>
            </a:b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   auf das Kernproblem</a:t>
            </a: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279720" indent="0">
              <a:lnSpc>
                <a:spcPct val="85000"/>
              </a:lnSpc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100" spc="-1" strike="noStrike">
              <a:solidFill>
                <a:srgbClr val="800000"/>
              </a:solidFill>
              <a:latin typeface="Arial"/>
            </a:endParaRPr>
          </a:p>
          <a:p>
            <a:pPr marL="279720" indent="-279720">
              <a:lnSpc>
                <a:spcPct val="85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...keine Einarbeitung der End-User </a:t>
            </a:r>
            <a:br>
              <a:rPr sz="2200"/>
            </a:b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   durch die intuitive Benutzeroberfläche</a:t>
            </a: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279720" indent="0">
              <a:lnSpc>
                <a:spcPct val="85000"/>
              </a:lnSpc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100" spc="-1" strike="noStrike">
              <a:solidFill>
                <a:srgbClr val="800000"/>
              </a:solidFill>
              <a:latin typeface="Arial"/>
            </a:endParaRPr>
          </a:p>
          <a:p>
            <a:pPr marL="279720" indent="-279720">
              <a:lnSpc>
                <a:spcPct val="85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...eliminiert Medienbrüche und verbessert Arbeitsprozesse</a:t>
            </a: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279720" indent="0">
              <a:lnSpc>
                <a:spcPct val="85000"/>
              </a:lnSpc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000" spc="-1" strike="noStrike">
              <a:solidFill>
                <a:srgbClr val="800000"/>
              </a:solidFill>
              <a:latin typeface="Arial"/>
            </a:endParaRPr>
          </a:p>
          <a:p>
            <a:pPr marL="279720" indent="-279720">
              <a:lnSpc>
                <a:spcPct val="85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...ist schnell implementiert und erhöht </a:t>
            </a:r>
            <a:br>
              <a:rPr sz="2200"/>
            </a:b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   sofort die Produktivität</a:t>
            </a: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1673280"/>
            <a:ext cx="2879640" cy="46188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2400" spc="-1" strike="noStrike">
                <a:solidFill>
                  <a:srgbClr val="ff7300"/>
                </a:solidFill>
                <a:latin typeface="Arial Rounded MT Bold"/>
              </a:rPr>
              <a:t>join</a:t>
            </a:r>
            <a:r>
              <a:rPr b="1" i="1" lang="de-DE" sz="2400" spc="-1" strike="noStrike">
                <a:solidFill>
                  <a:srgbClr val="800000"/>
                </a:solidFill>
                <a:latin typeface="Arial Rounded MT Bold"/>
              </a:rPr>
              <a:t>IT</a:t>
            </a:r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505FF3-F297-445D-8A9A-1771817630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4e2"/>
            </a:gs>
            <a:gs pos="100000">
              <a:srgbClr val="ffde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76000" y="2421000"/>
            <a:ext cx="5940360" cy="761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5900" spc="-1" strike="noStrike">
                <a:solidFill>
                  <a:srgbClr val="800000"/>
                </a:solidFill>
                <a:latin typeface="Arial Rounded MT Bold"/>
              </a:rPr>
              <a:t>Ihre Fragen ?</a:t>
            </a:r>
            <a:endParaRPr b="1" lang="en-US" sz="5900" spc="-1" strike="noStrike">
              <a:solidFill>
                <a:srgbClr val="800000"/>
              </a:solidFill>
              <a:latin typeface="Arial Rounded MT Bold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333360"/>
            <a:ext cx="8496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0000"/>
                </a:solidFill>
                <a:latin typeface="Arial Rounded MT Bold"/>
              </a:rPr>
              <a:t> </a:t>
            </a:r>
            <a:r>
              <a:rPr b="1" i="1" lang="de-DE" sz="2800" spc="-1" strike="noStrike">
                <a:solidFill>
                  <a:srgbClr val="ff7300"/>
                </a:solidFill>
                <a:latin typeface="Arial Rounded MT Bold"/>
              </a:rPr>
              <a:t>join</a:t>
            </a:r>
            <a:r>
              <a:rPr b="1" i="1" lang="de-DE" sz="2800" spc="-1" strike="noStrike">
                <a:solidFill>
                  <a:srgbClr val="800000"/>
                </a:solidFill>
                <a:latin typeface="Arial Rounded MT Bold"/>
              </a:rPr>
              <a:t>IT </a:t>
            </a:r>
            <a:endParaRPr b="0" lang="en-US" sz="28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ABBAE7-2CB9-4967-8DD8-BA8CD50E83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4e2"/>
            </a:gs>
            <a:gs pos="100000">
              <a:srgbClr val="ffde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42920" y="1539360"/>
            <a:ext cx="7344000" cy="178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lnSpc>
                <a:spcPct val="90000"/>
              </a:lnSpc>
              <a:spcBef>
                <a:spcPts val="142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5700" spc="-1" strike="noStrike">
                <a:solidFill>
                  <a:srgbClr val="800000"/>
                </a:solidFill>
                <a:latin typeface="Arial Rounded MT Bold"/>
              </a:rPr>
              <a:t>Herzlichen </a:t>
            </a:r>
            <a:br>
              <a:rPr sz="5700"/>
            </a:br>
            <a:r>
              <a:rPr b="1" lang="de-DE" sz="5700" spc="-1" strike="noStrike">
                <a:solidFill>
                  <a:srgbClr val="800000"/>
                </a:solidFill>
                <a:latin typeface="Arial Rounded MT Bold"/>
              </a:rPr>
              <a:t>Dank !</a:t>
            </a:r>
            <a:endParaRPr b="1" lang="en-US" sz="57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333360"/>
            <a:ext cx="8496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0000"/>
                </a:solidFill>
                <a:latin typeface="Arial Rounded MT Bold"/>
              </a:rPr>
              <a:t> </a:t>
            </a:r>
            <a:r>
              <a:rPr b="1" i="1" lang="de-DE" sz="2800" spc="-1" strike="noStrike">
                <a:solidFill>
                  <a:srgbClr val="ff7300"/>
                </a:solidFill>
                <a:latin typeface="Arial Rounded MT Bold"/>
              </a:rPr>
              <a:t>join</a:t>
            </a:r>
            <a:r>
              <a:rPr b="1" i="1" lang="de-DE" sz="2800" spc="-1" strike="noStrike">
                <a:solidFill>
                  <a:srgbClr val="800000"/>
                </a:solidFill>
                <a:latin typeface="Arial Rounded MT Bold"/>
              </a:rPr>
              <a:t>IT </a:t>
            </a:r>
            <a:endParaRPr b="0" lang="en-US" sz="28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28720" y="3573360"/>
            <a:ext cx="23904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trieb:</a:t>
            </a:r>
            <a:endParaRPr b="0" lang="en-US" sz="1800" spc="-1" strike="noStrike">
              <a:solidFill>
                <a:srgbClr val="d2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2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800000"/>
                </a:solidFill>
                <a:latin typeface="Arial"/>
              </a:rPr>
              <a:t>acayosoft</a:t>
            </a:r>
            <a:r>
              <a:rPr b="1" i="1" lang="en-US" sz="1800" spc="-1" strike="noStrike" baseline="30000">
                <a:solidFill>
                  <a:srgbClr val="800000"/>
                </a:solidFill>
                <a:latin typeface="Arial"/>
                <a:ea typeface="Arial"/>
              </a:rPr>
              <a:t>®</a:t>
            </a:r>
            <a:r>
              <a:rPr b="1" i="1" lang="de-DE" sz="1800" spc="-1" strike="noStrike">
                <a:solidFill>
                  <a:srgbClr val="800000"/>
                </a:solidFill>
                <a:latin typeface="Arial"/>
              </a:rPr>
              <a:t> GmbH</a:t>
            </a:r>
            <a:endParaRPr b="0" lang="en-US" sz="1800" spc="-1" strike="noStrike">
              <a:solidFill>
                <a:srgbClr val="d2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2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irkenstr. 1</a:t>
            </a:r>
            <a:endParaRPr b="0" lang="en-US" sz="1800" spc="-1" strike="noStrike">
              <a:solidFill>
                <a:srgbClr val="d2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-83043 Bad Aibling</a:t>
            </a:r>
            <a:endParaRPr b="0" lang="en-US" sz="1800" spc="-1" strike="noStrike">
              <a:solidFill>
                <a:srgbClr val="d2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d2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on  08061 - 6884</a:t>
            </a:r>
            <a:endParaRPr b="0" lang="en-US" sz="1800" spc="-1" strike="noStrike">
              <a:solidFill>
                <a:srgbClr val="d2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x  08061 - 1474</a:t>
            </a:r>
            <a:endParaRPr b="0" lang="en-US" sz="18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57120" y="4869000"/>
            <a:ext cx="231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kontakt@acaysoft.de</a:t>
            </a:r>
            <a:endParaRPr b="0" lang="en-US" sz="1800" spc="-1" strike="noStrike">
              <a:solidFill>
                <a:srgbClr val="d2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2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www.acayosoft.de</a:t>
            </a:r>
            <a:endParaRPr b="0" lang="en-US" sz="1800" spc="-1" strike="noStrike">
              <a:solidFill>
                <a:srgbClr val="d2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5FC458-B684-4F95-977E-5EA20B0C87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4e2"/>
            </a:gs>
            <a:gs pos="100000">
              <a:srgbClr val="ffde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342160" y="1333440"/>
            <a:ext cx="6228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Arial"/>
              </a:rPr>
              <a:t>der Datenexpress für Ihre Informationen</a:t>
            </a:r>
            <a:endParaRPr b="0" lang="en-US" sz="25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86440" y="289548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ktivität</a:t>
            </a:r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teigern</a:t>
            </a:r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81760" y="3886200"/>
            <a:ext cx="204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en</a:t>
            </a:r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gewinnen</a:t>
            </a:r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51480" y="4876920"/>
            <a:ext cx="116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ten</a:t>
            </a:r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enken</a:t>
            </a:r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95240" y="2057400"/>
            <a:ext cx="175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ziale</a:t>
            </a:r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erschließen</a:t>
            </a:r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1828800" y="1371600"/>
            <a:ext cx="4952880" cy="4751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3498840" cy="762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500" spc="-1" strike="noStrike">
                <a:solidFill>
                  <a:srgbClr val="ff7300"/>
                </a:solidFill>
                <a:latin typeface="Arial Rounded MT Bold"/>
              </a:rPr>
              <a:t>join</a:t>
            </a:r>
            <a:r>
              <a:rPr b="1" i="1" lang="de-DE" sz="5500" spc="-1" strike="noStrike">
                <a:solidFill>
                  <a:srgbClr val="800000"/>
                </a:solidFill>
                <a:latin typeface="Arial Rounded MT Bold"/>
              </a:rPr>
              <a:t>IT</a:t>
            </a:r>
            <a:endParaRPr b="1" lang="en-US" sz="5500" spc="-1" strike="noStrike">
              <a:solidFill>
                <a:srgbClr val="8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3518B-4529-4C73-A6F0-ED5773C42C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5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4e2"/>
            </a:gs>
            <a:gs pos="100000">
              <a:srgbClr val="ffde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96360" cy="762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800" spc="-1" strike="noStrike">
                <a:solidFill>
                  <a:srgbClr val="800000"/>
                </a:solidFill>
                <a:latin typeface="Arial Rounded MT Bold"/>
              </a:rPr>
              <a:t>Was ist </a:t>
            </a:r>
            <a:r>
              <a:rPr b="1" i="1" lang="de-DE" sz="2800" spc="-1" strike="noStrike">
                <a:solidFill>
                  <a:srgbClr val="ff7300"/>
                </a:solidFill>
                <a:latin typeface="Arial Rounded MT Bold"/>
              </a:rPr>
              <a:t>join</a:t>
            </a:r>
            <a:r>
              <a:rPr b="1" i="1" lang="de-DE" sz="2800" spc="-1" strike="noStrike">
                <a:solidFill>
                  <a:srgbClr val="800000"/>
                </a:solidFill>
                <a:latin typeface="Arial Rounded MT Bold"/>
              </a:rPr>
              <a:t>IT </a:t>
            </a:r>
            <a:r>
              <a:rPr b="1" lang="de-DE" sz="2800" spc="-1" strike="noStrike">
                <a:solidFill>
                  <a:srgbClr val="800000"/>
                </a:solidFill>
                <a:latin typeface="Arial Rounded MT Bold"/>
              </a:rPr>
              <a:t>?</a:t>
            </a:r>
            <a:endParaRPr b="1" lang="en-US" sz="2800" spc="-1" strike="noStrike">
              <a:solidFill>
                <a:srgbClr val="800000"/>
              </a:solidFill>
              <a:latin typeface="Arial Rounded MT Bold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421000"/>
            <a:ext cx="822960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 marL="384120" indent="-384120"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Zentrale Informations-Plattform im Intranet zur Bereitstel-lung von Realtime-Informationen aus operativen Systemen</a:t>
            </a:r>
            <a:endParaRPr b="0" lang="en-US" sz="22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1655640"/>
            <a:ext cx="2879640" cy="46188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2400" spc="-1" strike="noStrike">
                <a:solidFill>
                  <a:srgbClr val="ff7300"/>
                </a:solidFill>
                <a:latin typeface="Arial Rounded MT Bold"/>
              </a:rPr>
              <a:t>Definition</a:t>
            </a:r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3716280"/>
            <a:ext cx="822960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 marL="384120" indent="-384120"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Standardisierte Batch-Verarbeitung unter IBM zOS im Produktionsumfeld unter Berücksichtigung eines 7x24 Betriebs</a:t>
            </a:r>
            <a:endParaRPr b="0" lang="en-US" sz="22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8E3E35-DEF6-431A-8D54-E3E7E52294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4e2"/>
            </a:gs>
            <a:gs pos="100000">
              <a:srgbClr val="ffde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1905120"/>
            <a:ext cx="8440920" cy="31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 marL="384120" indent="-384120">
              <a:lnSpc>
                <a:spcPct val="100000"/>
              </a:lnSpc>
              <a:spcBef>
                <a:spcPts val="1375"/>
              </a:spcBef>
              <a:buClr>
                <a:srgbClr val="800000"/>
              </a:buClr>
              <a:buFont typeface="Wingdings" charset="2"/>
              <a:buChar char="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Qualitätsgesicherte Batch- und Onlinerecherche in produktiven Daten </a:t>
            </a:r>
            <a:endParaRPr b="0" lang="en-US" sz="2200" spc="-1" strike="noStrike">
              <a:solidFill>
                <a:srgbClr val="d2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1375"/>
              </a:spcBef>
              <a:buClr>
                <a:srgbClr val="800000"/>
              </a:buClr>
              <a:buFont typeface="Wingdings" charset="2"/>
              <a:buChar char="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Bündelung von Realtimeinformationen in einem heterogenen Systemumfeld </a:t>
            </a:r>
            <a:endParaRPr b="0" lang="en-US" sz="2200" spc="-1" strike="noStrike">
              <a:solidFill>
                <a:srgbClr val="d2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1375"/>
              </a:spcBef>
              <a:buClr>
                <a:srgbClr val="800000"/>
              </a:buClr>
              <a:buFont typeface="Wingdings" charset="2"/>
              <a:buChar char="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Medienbrüche beseitigen</a:t>
            </a:r>
            <a:endParaRPr b="0" lang="en-US" sz="2200" spc="-1" strike="noStrike">
              <a:solidFill>
                <a:srgbClr val="d2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1375"/>
              </a:spcBef>
              <a:buClr>
                <a:srgbClr val="800000"/>
              </a:buClr>
              <a:buFont typeface="Wingdings" charset="2"/>
              <a:buChar char="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Überwachung der Qualität von IT-Standardprozessen</a:t>
            </a:r>
            <a:endParaRPr b="0" lang="en-US" sz="2200" spc="-1" strike="noStrike">
              <a:solidFill>
                <a:srgbClr val="d2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1375"/>
              </a:spcBef>
              <a:buClr>
                <a:srgbClr val="800000"/>
              </a:buClr>
              <a:buFont typeface="Wingdings" charset="2"/>
              <a:buChar char="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Universalwerkzeug für die Anwendungsentwicklung</a:t>
            </a:r>
            <a:endParaRPr b="0" lang="en-US" sz="22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96360" cy="762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800" spc="-1" strike="noStrike">
                <a:solidFill>
                  <a:srgbClr val="800000"/>
                </a:solidFill>
                <a:latin typeface="Arial Rounded MT Bold"/>
              </a:rPr>
              <a:t>Für welchen Einsatzzweck ist </a:t>
            </a:r>
            <a:r>
              <a:rPr b="1" i="1" lang="de-DE" sz="2800" spc="-1" strike="noStrike">
                <a:solidFill>
                  <a:srgbClr val="ff7300"/>
                </a:solidFill>
                <a:latin typeface="Arial Rounded MT Bold"/>
              </a:rPr>
              <a:t>join</a:t>
            </a:r>
            <a:r>
              <a:rPr b="1" i="1" lang="de-DE" sz="2800" spc="-1" strike="noStrike">
                <a:solidFill>
                  <a:srgbClr val="800000"/>
                </a:solidFill>
                <a:latin typeface="Arial Rounded MT Bold"/>
              </a:rPr>
              <a:t>IT</a:t>
            </a:r>
            <a:r>
              <a:rPr b="1" lang="de-DE" sz="2800" spc="-1" strike="noStrike">
                <a:solidFill>
                  <a:srgbClr val="800000"/>
                </a:solidFill>
                <a:latin typeface="Arial Rounded MT Bold"/>
              </a:rPr>
              <a:t> gedacht?</a:t>
            </a:r>
            <a:endParaRPr b="1" lang="en-US" sz="2800" spc="-1" strike="noStrike">
              <a:solidFill>
                <a:srgbClr val="8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65824F-ECBB-42E6-8E79-61E459F7A5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4e2"/>
            </a:gs>
            <a:gs pos="100000">
              <a:srgbClr val="ffde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9640" y="333360"/>
            <a:ext cx="8496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800" spc="-1" strike="noStrike">
                <a:solidFill>
                  <a:srgbClr val="800000"/>
                </a:solidFill>
                <a:latin typeface="Arial Rounded MT Bold"/>
              </a:rPr>
              <a:t>Entwickler Workbench</a:t>
            </a:r>
            <a:endParaRPr b="0" lang="en-US" sz="28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96360" cy="762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800" spc="-1" strike="noStrike">
                <a:solidFill>
                  <a:srgbClr val="800000"/>
                </a:solidFill>
                <a:latin typeface="Arial Rounded MT Bold"/>
              </a:rPr>
              <a:t>Entwickler Workbench</a:t>
            </a:r>
            <a:endParaRPr b="1" lang="en-US" sz="2800" spc="-1" strike="noStrike">
              <a:solidFill>
                <a:srgbClr val="8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A0F5E5-F073-4B49-B6B6-016CD31C9B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4e2"/>
            </a:gs>
            <a:gs pos="100000">
              <a:srgbClr val="ffde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9640" y="333360"/>
            <a:ext cx="8496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Rounded MT Bold"/>
              </a:rPr>
              <a:t>Endanwender</a:t>
            </a:r>
            <a:endParaRPr b="0" lang="en-US" sz="28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96360" cy="762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Rounded MT Bold"/>
              </a:rPr>
              <a:t>Endanwender</a:t>
            </a:r>
            <a:endParaRPr b="1" lang="en-US" sz="2800" spc="-1" strike="noStrike">
              <a:solidFill>
                <a:srgbClr val="8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DBBC7E-3D48-4BD4-B66B-60C9F9E03B8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4e2"/>
            </a:gs>
            <a:gs pos="100000">
              <a:srgbClr val="ffde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96360" cy="762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Rounded MT Bold"/>
              </a:rPr>
              <a:t>Wofür kann </a:t>
            </a:r>
            <a:r>
              <a:rPr b="1" i="1" lang="en-US" sz="2800" spc="-1" strike="noStrike">
                <a:solidFill>
                  <a:srgbClr val="ff7300"/>
                </a:solidFill>
                <a:latin typeface="Arial Rounded MT Bold"/>
              </a:rPr>
              <a:t>join</a:t>
            </a:r>
            <a:r>
              <a:rPr b="1" i="1" lang="en-US" sz="2800" spc="-1" strike="noStrike">
                <a:solidFill>
                  <a:srgbClr val="800000"/>
                </a:solidFill>
                <a:latin typeface="Arial Rounded MT Bold"/>
              </a:rPr>
              <a:t>IT</a:t>
            </a:r>
            <a:r>
              <a:rPr b="1" lang="en-US" sz="2800" spc="-1" strike="noStrike">
                <a:solidFill>
                  <a:srgbClr val="800000"/>
                </a:solidFill>
                <a:latin typeface="Arial Rounded MT Bold"/>
              </a:rPr>
              <a:t> eingesetzt werden?</a:t>
            </a:r>
            <a:endParaRPr b="1" lang="en-US" sz="2800" spc="-1" strike="noStrike">
              <a:solidFill>
                <a:srgbClr val="800000"/>
              </a:solidFill>
              <a:latin typeface="Arial Rounded M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2420640"/>
            <a:ext cx="8532720" cy="292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4520" indent="-344520">
              <a:lnSpc>
                <a:spcPct val="90000"/>
              </a:lnSpc>
              <a:spcBef>
                <a:spcPts val="1100"/>
              </a:spcBef>
              <a:spcAft>
                <a:spcPts val="1100"/>
              </a:spcAft>
              <a:buClr>
                <a:srgbClr val="800000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Migrationen oder Testdatengewinnung</a:t>
            </a: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100"/>
              </a:spcBef>
              <a:spcAft>
                <a:spcPts val="1100"/>
              </a:spcAft>
              <a:buClr>
                <a:srgbClr val="800000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Aufbau von strukturierten Informations-Portalen</a:t>
            </a: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100"/>
              </a:spcBef>
              <a:spcAft>
                <a:spcPts val="1100"/>
              </a:spcAft>
              <a:buClr>
                <a:srgbClr val="800000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Lösung zeitkritischer Anforderungen im </a:t>
            </a:r>
            <a:br>
              <a:rPr sz="2200"/>
            </a:b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Produktionsumfeld</a:t>
            </a: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100"/>
              </a:spcBef>
              <a:spcAft>
                <a:spcPts val="1100"/>
              </a:spcAft>
              <a:buClr>
                <a:srgbClr val="800000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Automatisierte Publizierung zyklischer Reports von</a:t>
            </a:r>
            <a:br>
              <a:rPr sz="2200"/>
            </a:b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Drittanbietern, wie z.B.:</a:t>
            </a:r>
            <a:br>
              <a:rPr sz="2200"/>
            </a:b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Cognos, SAS, Business Objects, Crystal Reports usw.</a:t>
            </a: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673280"/>
            <a:ext cx="3816360" cy="46188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2400" spc="-1" strike="noStrike">
                <a:solidFill>
                  <a:srgbClr val="ff7300"/>
                </a:solidFill>
                <a:latin typeface="Arial Rounded MT Bold"/>
              </a:rPr>
              <a:t>Einsatzbeispiele</a:t>
            </a:r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07642-4302-4147-B0C5-E277257F6F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4e2"/>
            </a:gs>
            <a:gs pos="100000">
              <a:srgbClr val="ffde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627280" y="3213000"/>
            <a:ext cx="381636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27280" y="3933720"/>
            <a:ext cx="381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627280" y="4220640"/>
            <a:ext cx="3816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627280" y="4581360"/>
            <a:ext cx="3816360" cy="93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27280" y="2421000"/>
            <a:ext cx="3745080" cy="9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96360" cy="762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800" spc="-1" strike="noStrike">
                <a:solidFill>
                  <a:srgbClr val="800000"/>
                </a:solidFill>
                <a:latin typeface="Arial Rounded MT Bold"/>
              </a:rPr>
              <a:t>Verschmelzung von heterogenen IT-Umgebung</a:t>
            </a:r>
            <a:endParaRPr b="1" lang="en-US" sz="2800" spc="-1" strike="noStrike">
              <a:solidFill>
                <a:srgbClr val="800000"/>
              </a:solidFill>
              <a:latin typeface="Arial Rounded MT Bold"/>
            </a:endParaRPr>
          </a:p>
        </p:txBody>
      </p:sp>
      <p:sp>
        <p:nvSpPr>
          <p:cNvPr id="76" name=""/>
          <p:cNvSpPr/>
          <p:nvPr/>
        </p:nvSpPr>
        <p:spPr>
          <a:xfrm>
            <a:off x="613440" y="1628640"/>
            <a:ext cx="19195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800000"/>
                </a:solidFill>
                <a:latin typeface="Arial"/>
              </a:rPr>
              <a:t>IMS/DB-DC</a:t>
            </a:r>
            <a:br>
              <a:rPr sz="2200"/>
            </a:br>
            <a:r>
              <a:rPr b="0" lang="de-DE" sz="2200" spc="-1" strike="noStrike">
                <a:solidFill>
                  <a:srgbClr val="800000"/>
                </a:solidFill>
                <a:latin typeface="Arial"/>
              </a:rPr>
              <a:t>Anwendung A</a:t>
            </a:r>
            <a:endParaRPr b="0" lang="en-US" sz="22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3800" y="2637000"/>
            <a:ext cx="22122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800000"/>
                </a:solidFill>
                <a:latin typeface="Arial"/>
              </a:rPr>
              <a:t>DB2 und VSAM </a:t>
            </a:r>
            <a:br>
              <a:rPr sz="2200"/>
            </a:br>
            <a:r>
              <a:rPr b="0" lang="de-DE" sz="2200" spc="-1" strike="noStrike">
                <a:solidFill>
                  <a:srgbClr val="800000"/>
                </a:solidFill>
                <a:latin typeface="Arial"/>
              </a:rPr>
              <a:t>Anwendung B</a:t>
            </a:r>
            <a:endParaRPr b="0" lang="en-US" sz="22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3645000"/>
            <a:ext cx="22320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800000"/>
                </a:solidFill>
                <a:latin typeface="Arial"/>
              </a:rPr>
              <a:t>C/S mit Oracle </a:t>
            </a:r>
            <a:br>
              <a:rPr sz="2200"/>
            </a:br>
            <a:r>
              <a:rPr b="0" lang="de-DE" sz="2200" spc="-1" strike="noStrike">
                <a:solidFill>
                  <a:srgbClr val="800000"/>
                </a:solidFill>
                <a:latin typeface="Arial"/>
              </a:rPr>
              <a:t>Anwendung C</a:t>
            </a:r>
            <a:endParaRPr b="0" lang="en-US" sz="22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2720" y="45813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8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5600" y="5300640"/>
            <a:ext cx="312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800000"/>
                </a:solidFill>
                <a:latin typeface="Arial"/>
              </a:rPr>
              <a:t>Intranet mit SQL-Server</a:t>
            </a:r>
            <a:endParaRPr b="0" lang="en-US" sz="2200" spc="-1" strike="noStrike">
              <a:solidFill>
                <a:srgbClr val="d2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800000"/>
                </a:solidFill>
                <a:latin typeface="Arial"/>
              </a:rPr>
              <a:t>Anwendung D</a:t>
            </a:r>
            <a:endParaRPr b="0" lang="en-US" sz="2200" spc="-1" strike="noStrike">
              <a:solidFill>
                <a:srgbClr val="d2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588000" y="2997360"/>
            <a:ext cx="1779840" cy="1672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116000" y="4797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Webdings"/>
                <a:ea typeface="Webdings"/>
              </a:rPr>
              <a:t></a:t>
            </a:r>
            <a:endParaRPr b="0" lang="en-US" sz="36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4076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Webdings"/>
                <a:ea typeface="Webdings"/>
              </a:rPr>
              <a:t></a:t>
            </a:r>
            <a:endParaRPr b="0" lang="en-US" sz="36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87280" y="306864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Webdings"/>
                <a:ea typeface="Webdings"/>
              </a:rPr>
              <a:t></a:t>
            </a:r>
            <a:endParaRPr b="0" lang="en-US" sz="36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 rot="10800000">
            <a:off x="1258560" y="20998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Webdings"/>
                <a:ea typeface="Webdings"/>
              </a:rPr>
              <a:t></a:t>
            </a:r>
            <a:endParaRPr b="0" lang="en-US" sz="36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52880" y="1638360"/>
            <a:ext cx="292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800000"/>
                </a:solidFill>
                <a:latin typeface="Arial"/>
              </a:rPr>
              <a:t>Anwendungsentwickler</a:t>
            </a:r>
            <a:br>
              <a:rPr sz="1800"/>
            </a:br>
            <a:r>
              <a:rPr b="1" lang="de-DE" sz="1800" spc="-1" strike="noStrike">
                <a:solidFill>
                  <a:srgbClr val="800000"/>
                </a:solidFill>
                <a:latin typeface="Arial"/>
              </a:rPr>
              <a:t>benötigt Informationen </a:t>
            </a:r>
            <a:br>
              <a:rPr sz="1800"/>
            </a:br>
            <a:r>
              <a:rPr b="1" lang="de-DE" sz="1800" spc="-1" strike="noStrike">
                <a:solidFill>
                  <a:srgbClr val="800000"/>
                </a:solidFill>
                <a:latin typeface="Arial"/>
              </a:rPr>
              <a:t> aus </a:t>
            </a:r>
            <a:br>
              <a:rPr sz="1800"/>
            </a:br>
            <a:r>
              <a:rPr b="1" lang="de-DE" sz="1800" spc="-1" strike="noStrike">
                <a:solidFill>
                  <a:srgbClr val="800000"/>
                </a:solidFill>
                <a:latin typeface="Arial"/>
              </a:rPr>
              <a:t>verschiedenen Systemen</a:t>
            </a:r>
            <a:br>
              <a:rPr sz="1800"/>
            </a:br>
            <a:endParaRPr b="0" lang="en-US" sz="18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51280" y="2852640"/>
            <a:ext cx="1757520" cy="2227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0000"/>
                </a:solidFill>
                <a:latin typeface="Arial"/>
              </a:rPr>
              <a:t>Medien</a:t>
            </a:r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800000"/>
                </a:solidFill>
                <a:latin typeface="Webdings"/>
                <a:ea typeface="Webdings"/>
              </a:rPr>
              <a:t></a:t>
            </a:r>
            <a:br>
              <a:rPr sz="4400"/>
            </a:br>
            <a:r>
              <a:rPr b="1" lang="de-DE" sz="2400" spc="-1" strike="noStrike">
                <a:solidFill>
                  <a:srgbClr val="800000"/>
                </a:solidFill>
                <a:latin typeface="Arial"/>
              </a:rPr>
              <a:t>brüche</a:t>
            </a:r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71640" y="1963800"/>
            <a:ext cx="21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en</a:t>
            </a:r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C737DA-B59C-4419-A170-EB0AD2722F0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3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96360" cy="762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2800" spc="-1" strike="noStrike">
                <a:solidFill>
                  <a:srgbClr val="ff7300"/>
                </a:solidFill>
                <a:latin typeface="Arial Rounded MT Bold"/>
              </a:rPr>
              <a:t>join</a:t>
            </a:r>
            <a:r>
              <a:rPr b="1" i="1" lang="de-DE" sz="2800" spc="-1" strike="noStrike">
                <a:solidFill>
                  <a:srgbClr val="800000"/>
                </a:solidFill>
                <a:latin typeface="Arial Rounded MT Bold"/>
              </a:rPr>
              <a:t>IT</a:t>
            </a:r>
            <a:r>
              <a:rPr b="1" lang="de-DE" sz="2800" spc="-1" strike="noStrike">
                <a:solidFill>
                  <a:srgbClr val="800000"/>
                </a:solidFill>
                <a:latin typeface="Arial Rounded MT Bold"/>
              </a:rPr>
              <a:t>  verbindet Welten</a:t>
            </a:r>
            <a:endParaRPr b="1" lang="en-US" sz="2800" spc="-1" strike="noStrike">
              <a:solidFill>
                <a:srgbClr val="800000"/>
              </a:solidFill>
              <a:latin typeface="Arial Rounded MT Bold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80880" y="1295280"/>
            <a:ext cx="8001000" cy="4208400"/>
            <a:chOff x="380880" y="1295280"/>
            <a:chExt cx="8001000" cy="4208400"/>
          </a:xfrm>
        </p:grpSpPr>
        <p:sp>
          <p:nvSpPr>
            <p:cNvPr id="92" name=""/>
            <p:cNvSpPr/>
            <p:nvPr/>
          </p:nvSpPr>
          <p:spPr>
            <a:xfrm>
              <a:off x="1557360" y="5503680"/>
              <a:ext cx="0" cy="0"/>
            </a:xfrm>
            <a:prstGeom prst="line">
              <a:avLst/>
            </a:prstGeom>
            <a:ln w="9360">
              <a:solidFill>
                <a:srgbClr val="d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2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0880" y="4279680"/>
              <a:ext cx="226404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i="1" lang="de-DE" sz="2000" spc="-1" strike="noStrike">
                  <a:solidFill>
                    <a:srgbClr val="800000"/>
                  </a:solidFill>
                  <a:latin typeface="Arial"/>
                </a:rPr>
                <a:t>Client / Server</a:t>
              </a:r>
              <a:endParaRPr b="0" lang="en-US" sz="2000" spc="-1" strike="noStrike">
                <a:solidFill>
                  <a:srgbClr val="d20000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i="1" lang="de-DE" sz="2000" spc="-1" strike="noStrike">
                  <a:solidFill>
                    <a:srgbClr val="800000"/>
                  </a:solidFill>
                  <a:latin typeface="Arial"/>
                </a:rPr>
                <a:t>Technology</a:t>
              </a:r>
              <a:endParaRPr b="0" lang="en-US" sz="2000" spc="-1" strike="noStrike">
                <a:solidFill>
                  <a:srgbClr val="d2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82600" y="4002120"/>
              <a:ext cx="1928160" cy="10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de-DE" sz="2000" spc="-1" strike="noStrike">
                  <a:solidFill>
                    <a:srgbClr val="800000"/>
                  </a:solidFill>
                  <a:latin typeface="Arial"/>
                </a:rPr>
                <a:t>any data, </a:t>
              </a:r>
              <a:endParaRPr b="0" lang="en-US" sz="2000" spc="-1" strike="noStrike">
                <a:solidFill>
                  <a:srgbClr val="d2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de-DE" sz="2000" spc="-1" strike="noStrike">
                  <a:solidFill>
                    <a:srgbClr val="800000"/>
                  </a:solidFill>
                  <a:latin typeface="Arial"/>
                </a:rPr>
                <a:t>  </a:t>
              </a:r>
              <a:r>
                <a:rPr b="1" lang="de-DE" sz="2000" spc="-1" strike="noStrike">
                  <a:solidFill>
                    <a:srgbClr val="800000"/>
                  </a:solidFill>
                  <a:latin typeface="Arial"/>
                </a:rPr>
                <a:t>any format, </a:t>
              </a:r>
              <a:endParaRPr b="0" lang="en-US" sz="2000" spc="-1" strike="noStrike">
                <a:solidFill>
                  <a:srgbClr val="d2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de-DE" sz="2000" spc="-1" strike="noStrike">
                  <a:solidFill>
                    <a:srgbClr val="800000"/>
                  </a:solidFill>
                  <a:latin typeface="Arial"/>
                </a:rPr>
                <a:t>     </a:t>
              </a:r>
              <a:r>
                <a:rPr b="1" lang="de-DE" sz="2000" spc="-1" strike="noStrike">
                  <a:solidFill>
                    <a:srgbClr val="800000"/>
                  </a:solidFill>
                  <a:latin typeface="Arial"/>
                </a:rPr>
                <a:t>anywhere...</a:t>
              </a:r>
              <a:endParaRPr b="0" lang="en-US" sz="2000" spc="-1" strike="noStrike">
                <a:solidFill>
                  <a:srgbClr val="d2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59280" y="3341520"/>
              <a:ext cx="1562400" cy="7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i="1" lang="de-DE" sz="4000" spc="-1" strike="noStrike">
                  <a:solidFill>
                    <a:srgbClr val="ff7300"/>
                  </a:solidFill>
                  <a:latin typeface="Arial Rounded MT Bold"/>
                </a:rPr>
                <a:t>join</a:t>
              </a:r>
              <a:r>
                <a:rPr b="1" i="1" lang="de-DE" sz="4000" spc="-1" strike="noStrike">
                  <a:solidFill>
                    <a:srgbClr val="800000"/>
                  </a:solidFill>
                  <a:latin typeface="Arial Rounded MT Bold"/>
                </a:rPr>
                <a:t>IT</a:t>
              </a:r>
              <a:endParaRPr b="0" lang="en-US" sz="4000" spc="-1" strike="noStrike">
                <a:solidFill>
                  <a:srgbClr val="d2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20880" y="1295280"/>
              <a:ext cx="48492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z.B.</a:t>
              </a:r>
              <a:endParaRPr b="0" lang="en-US" sz="1300" spc="-1" strike="noStrike">
                <a:solidFill>
                  <a:srgbClr val="d2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29120" y="5041800"/>
              <a:ext cx="48492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z.B.</a:t>
              </a:r>
              <a:endParaRPr b="0" lang="en-US" sz="1300" spc="-1" strike="noStrike">
                <a:solidFill>
                  <a:srgbClr val="d2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07880" y="5194080"/>
              <a:ext cx="48492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z.B.</a:t>
              </a:r>
              <a:endParaRPr b="0" lang="en-US" sz="1300" spc="-1" strike="noStrike">
                <a:solidFill>
                  <a:srgbClr val="d2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81680" y="3822480"/>
              <a:ext cx="1600200" cy="10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i="1" lang="de-DE" sz="2000" spc="-1" strike="noStrike">
                  <a:solidFill>
                    <a:srgbClr val="800000"/>
                  </a:solidFill>
                  <a:latin typeface="Arial"/>
                </a:rPr>
                <a:t>Mainframe</a:t>
              </a:r>
              <a:br>
                <a:rPr sz="2000"/>
              </a:br>
              <a:r>
                <a:rPr b="1" i="1" lang="de-DE" sz="2000" spc="-1" strike="noStrike">
                  <a:solidFill>
                    <a:srgbClr val="800000"/>
                  </a:solidFill>
                  <a:latin typeface="Arial"/>
                </a:rPr>
                <a:t>Welt zOS, OS/390</a:t>
              </a:r>
              <a:endParaRPr b="0" lang="en-US" sz="2000" spc="-1" strike="noStrike">
                <a:solidFill>
                  <a:srgbClr val="d2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29000" y="2298600"/>
              <a:ext cx="2743200" cy="2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i="1" lang="de-DE" sz="2000" spc="-1" strike="noStrike">
                  <a:solidFill>
                    <a:srgbClr val="800000"/>
                  </a:solidFill>
                  <a:latin typeface="Arial"/>
                </a:rPr>
                <a:t>Web Technology</a:t>
              </a:r>
              <a:endParaRPr b="0" lang="en-US" sz="2000" spc="-1" strike="noStrike">
                <a:solidFill>
                  <a:srgbClr val="d2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4e2"/>
            </a:gs>
            <a:gs pos="100000">
              <a:srgbClr val="ffde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96360" cy="762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800" spc="-1" strike="noStrike">
                <a:solidFill>
                  <a:srgbClr val="800000"/>
                </a:solidFill>
                <a:latin typeface="Arial Rounded MT Bold"/>
              </a:rPr>
              <a:t>any data,  any format,  anywhere</a:t>
            </a:r>
            <a:endParaRPr b="1" lang="en-US" sz="2800" spc="-1" strike="noStrike">
              <a:solidFill>
                <a:srgbClr val="800000"/>
              </a:solidFill>
              <a:latin typeface="Arial Rounded MT Bold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700280"/>
            <a:ext cx="883908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110000"/>
              </a:lnSpc>
              <a:spcBef>
                <a:spcPts val="1375"/>
              </a:spcBef>
              <a:spcAft>
                <a:spcPts val="1375"/>
              </a:spcAft>
              <a:buClr>
                <a:srgbClr val="800000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2200" spc="-1" strike="noStrike">
                <a:solidFill>
                  <a:srgbClr val="ff7300"/>
                </a:solidFill>
                <a:latin typeface="Arial"/>
              </a:rPr>
              <a:t>join</a:t>
            </a:r>
            <a:r>
              <a:rPr b="1" i="1" lang="de-DE" sz="2200" spc="-1" strike="noStrike">
                <a:solidFill>
                  <a:srgbClr val="800000"/>
                </a:solidFill>
                <a:latin typeface="Arial"/>
              </a:rPr>
              <a:t>IT</a:t>
            </a: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 WEB:  </a:t>
            </a:r>
            <a:br>
              <a:rPr sz="2200"/>
            </a:b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- Listanzeige im Browser, </a:t>
            </a:r>
            <a:br>
              <a:rPr sz="2200"/>
            </a:b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- 2D- und 3D-Graphik, </a:t>
            </a:r>
            <a:br>
              <a:rPr sz="2200"/>
            </a:b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- Formatierter Export nach Excel zur indiv. Weiterverarbeitung </a:t>
            </a:r>
            <a:endParaRPr b="0" lang="en-US" sz="2200" spc="-1" strike="noStrike">
              <a:solidFill>
                <a:srgbClr val="d2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375"/>
              </a:spcBef>
              <a:spcAft>
                <a:spcPts val="1375"/>
              </a:spcAft>
              <a:buClr>
                <a:srgbClr val="800000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2200" spc="-1" strike="noStrike">
                <a:solidFill>
                  <a:srgbClr val="ff7300"/>
                </a:solidFill>
                <a:latin typeface="Arial"/>
              </a:rPr>
              <a:t>join</a:t>
            </a:r>
            <a:r>
              <a:rPr b="1" i="1" lang="de-DE" sz="2200" spc="-1" strike="noStrike">
                <a:solidFill>
                  <a:srgbClr val="800000"/>
                </a:solidFill>
                <a:latin typeface="Arial"/>
              </a:rPr>
              <a:t>IT</a:t>
            </a: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 OS:</a:t>
            </a:r>
            <a:br>
              <a:rPr sz="2200"/>
            </a:b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- seq. Datei mit indiv. Weiterverarbeitung</a:t>
            </a:r>
            <a:br>
              <a:rPr sz="2200"/>
            </a:b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- unterschiedlichst aufbereitete Listen</a:t>
            </a:r>
            <a:br>
              <a:rPr sz="2200"/>
            </a:b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- Formatierte CSV-Datei zur Reportgewinnung im WEB</a:t>
            </a:r>
            <a:br>
              <a:rPr sz="2200"/>
            </a:b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- Mail-Datei im SMTP-Format </a:t>
            </a:r>
            <a:endParaRPr b="0" lang="en-US" sz="2200" spc="-1" strike="noStrike">
              <a:solidFill>
                <a:srgbClr val="d2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375"/>
              </a:spcBef>
              <a:spcAft>
                <a:spcPts val="1375"/>
              </a:spcAft>
              <a:buClr>
                <a:srgbClr val="800000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2200" spc="-1" strike="noStrike">
                <a:solidFill>
                  <a:srgbClr val="ff7300"/>
                </a:solidFill>
                <a:latin typeface="Arial"/>
              </a:rPr>
              <a:t>join</a:t>
            </a:r>
            <a:r>
              <a:rPr b="1" i="1" lang="de-DE" sz="2200" spc="-1" strike="noStrike">
                <a:solidFill>
                  <a:srgbClr val="800000"/>
                </a:solidFill>
                <a:latin typeface="Arial"/>
              </a:rPr>
              <a:t>IT</a:t>
            </a:r>
            <a:r>
              <a:rPr b="1" lang="de-DE" sz="2200" spc="-1" strike="noStrike">
                <a:solidFill>
                  <a:srgbClr val="800000"/>
                </a:solidFill>
                <a:latin typeface="Arial"/>
              </a:rPr>
              <a:t> Metadatenaustausch über XML</a:t>
            </a:r>
            <a:endParaRPr b="0" lang="en-US" sz="22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1125360"/>
            <a:ext cx="2879640" cy="46188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2400" spc="-1" strike="noStrike">
                <a:solidFill>
                  <a:srgbClr val="ff7300"/>
                </a:solidFill>
                <a:latin typeface="Arial Rounded MT Bold"/>
              </a:rPr>
              <a:t>Ausgabeformate</a:t>
            </a:r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B1AEE0-CDD4-4C8E-9AA7-98024DF407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31T13:03:24Z</dcterms:created>
  <dc:creator>abcef</dc:creator>
  <dc:description/>
  <dc:language>en-US</dc:language>
  <cp:lastModifiedBy>e040230</cp:lastModifiedBy>
  <dcterms:modified xsi:type="dcterms:W3CDTF">2007-04-30T12:56:17Z</dcterms:modified>
  <cp:revision>75</cp:revision>
  <dc:subject/>
  <dc:title>PowerPoint-Präsentation</dc:title>
</cp:coreProperties>
</file>